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F60-9D68-4FA0-8D06-27CE0DEA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64B-BED8-4050-BB17-7105CB3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817-E583-4F89-A4DF-5BDB3A99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BA3-4A3B-4E56-A493-A0BC4CD6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CC4-9915-431F-B4FA-1DF40098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B00-AE00-49E5-8609-72E21A3F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DFE-1CEC-4C51-B459-3C7E6BE8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4FD-E63C-4F60-B1CE-2598FD55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E85-6386-43E9-B76C-D6693B08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F42-F949-43E8-8FB3-4D662C2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EF5-2794-445B-99DF-C9D156FD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B4A-2F00-4113-8535-9A108748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6906-612D-4851-9321-8732E808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56386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gital Phot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60352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2387880" cy="2427120"/>
          </a:xfrm>
          <a:prstGeom prst="rect">
            <a:avLst/>
          </a:prstGeom>
          <a:ln w="0">
            <a:noFill/>
          </a:ln>
        </p:spPr>
      </p:pic>
      <p:sp>
        <p:nvSpPr>
          <p:cNvPr id="44" name="Photo"/>
          <p:cNvSpPr/>
          <p:nvPr/>
        </p:nvSpPr>
        <p:spPr>
          <a:xfrm>
            <a:off x="5715000" y="7621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312408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as a digital file on a comp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isplayed, printed, stored using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asily transmitted to other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 can be edited on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8380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Phot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26240" y="30492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5848200" cy="296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304920"/>
            <a:ext cx="58676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images are made up of small squares, just like a tile mosaic on your kitchen or bathroom wall (pixels). Though a digital photograph looks smooth and continuous just like a regular photograph, it's actually composed of millions of tiny squares as shown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diting Phot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Eye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/ Crop / Re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Brightness /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1511280"/>
            <a:ext cx="5715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03040"/>
            <a:ext cx="3886200" cy="248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676680" cy="24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243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695760" cy="246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9052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66880" y="358128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3:32:45Z</dcterms:created>
  <dc:creator>Patrick J. Mooney</dc:creator>
  <dc:description/>
  <dc:language>en-US</dc:language>
  <cp:lastModifiedBy>Patrick J. Mooney</cp:lastModifiedBy>
  <dcterms:modified xsi:type="dcterms:W3CDTF">2010-09-30T04:14:51Z</dcterms:modified>
  <cp:revision>5</cp:revision>
  <dc:subject/>
  <dc:title>Digital Photography</dc:title>
</cp:coreProperties>
</file>